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73E-7C35-4B8D-BBB8-301882BE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D76-D86B-4EB0-81BD-9D231934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FA4-9CC8-4908-A714-135C11A5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7F4-1F4E-4706-BEE4-1A8F45F0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875-4F6D-4B44-AF5D-DF53E477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A86-481E-47E9-AB96-F9BE3BBC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96A-B100-423E-9AF5-E1044DD6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8CC-0972-43A7-8EDD-F3574649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F53-99A8-415C-9E20-2E58FE0B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884-7BFD-4DF4-91E8-EEBEFC00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FB9-501C-4DB5-8246-435EE2BD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FA5-878A-4C88-AF81-8D88D998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18960" y="2438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BF40-D82C-49DE-8B29-FB224B008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828800"/>
            <a:ext cx="586728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How Muc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Do I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Remembe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5720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Are you ready to play. .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orage 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800" y="4000680"/>
            <a:ext cx="434340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gnetic Storag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ptical Storag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put 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.  Stores data by magnetizing microscopic particles on the disk or tape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ime bom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ach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e Vir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.  Attaches to an application program, such as a gam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00600" y="5181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5181480"/>
            <a:ext cx="42670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.  A type of software that helps you perform a specific task such as word processin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infra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962520"/>
            <a:ext cx="4267080" cy="76176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ega computer</a:t>
            </a: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upercompu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038480"/>
            <a:ext cx="41911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entiu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.  The fastest and most expensive type of comput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.  Computer programs that help the computer carry out essential operating task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 Black"/>
              </a:rPr>
              <a:t>T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eraby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lo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ga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Gigaby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.  Approximately 1 billi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t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men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x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.  Point and click menu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96252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p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3962520"/>
            <a:ext cx="388620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h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. A microcomputer designed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use by an individu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o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rm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. The sequence of events that occurs within a computer system when the user starts the comput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8. Tangible, physical equipment that can be touch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licon Chip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orage 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utput 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A mechanical apparatus that records data to and retrieves data from a storage mediu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. A large, fast, and expensive computer generally used by businesses or government agencies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loby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a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. Eight bits of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pheral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put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rage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put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1. Printers and monitors are types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d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ppy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ip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2. Optical storage is used to store data 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3. Computer’s memory that stores data and instructions but is lost when power is turned off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4. Computer’s memory that stores permanent instructions needed for computer opera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kt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con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5. To keep your files organized, you creat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cro Vir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le Vir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ojan Hor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A virus designed to spread from computer to computer usually through e-ma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</a:t>
            </a:r>
            <a:r>
              <a:rPr b="0" lang="en-US" sz="35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An interconnected group of computers that covers a large geographical are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Intangible set of instructions that tell the computer what to d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724280" y="5105520"/>
            <a:ext cx="4114800" cy="99036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eripheral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11480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A component or equipment that expands a computer’s capabiliti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8098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952880"/>
            <a:ext cx="4038480" cy="99072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eripher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38098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 The underlying hardware and software of the computer system (PC or Ma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.  An interconnected group of computers and peripherals located within a limited are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ircui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.  Brains of the comput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7:55:29Z</dcterms:created>
  <dc:creator>User</dc:creator>
  <dc:description/>
  <dc:language>en-US</dc:language>
  <cp:lastModifiedBy>Brad Schmidt</cp:lastModifiedBy>
  <dcterms:modified xsi:type="dcterms:W3CDTF">2005-12-15T18:50:57Z</dcterms:modified>
  <cp:revision>30</cp:revision>
  <dc:subject/>
  <dc:title>PowerPoint Presentation</dc:title>
</cp:coreProperties>
</file>